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7E2E-617A-42AB-8F84-841D6643B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57C7-B565-43C1-BC09-00554B8E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5514-E6B4-4C87-92DA-901E98DC2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B571-5BC4-476F-ABDF-983E3B678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1636-6E56-41DD-B9D9-CB9D0EB6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1B12-9DA8-4DBC-8547-50DC6B29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4494-4E2B-4B0F-AA09-8141AD4A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BABA-43B3-4529-9A5E-B27A06FA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63A0-71CF-4781-B604-D6B9DAAB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0BBC-0E8B-42D9-980A-61C1158C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C715-45DF-482F-9036-8A1C1C82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A7EF-625D-4E5F-BF55-B0790F17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2F4C-AC1F-4C32-8157-D10C9335E6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forizmov.net/anekdoty/tags/kursanty/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6694560" cy="30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63280" y="3886200"/>
            <a:ext cx="6769080" cy="22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вно закончилась война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вно с войны пришли солдаты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на груди их ордена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рят, как памятные даты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м всем, кто вынес ту войну —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тылу иль на полях сражений, —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нес победную весну, —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клон и память поколен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" descr="C:\Users\User\Desktop\B7GFO.jpg"/>
          <p:cNvPicPr/>
          <p:nvPr/>
        </p:nvPicPr>
        <p:blipFill>
          <a:blip r:embed="rId1"/>
          <a:stretch/>
        </p:blipFill>
        <p:spPr>
          <a:xfrm>
            <a:off x="1763640" y="549360"/>
            <a:ext cx="6696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0560" y="620280"/>
            <a:ext cx="576108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аина Михайловна бодрая, энергичная. Женщина живёт строго по режиму, очень любит порядок. До сих пор занимается  домашними делами. Вот  что значит военная дисциплина! Она с ужасом вспоминает  те страшные времена и желает , чтобы мы всегда жили под мирным небом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844640"/>
            <a:ext cx="577044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нимаю что значит Побед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ветеранов, познавших все бед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рашной войны, уцелевших надеждой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то День Победы придёт неизбежн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ы про войну только в книгах читал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льмы смотрели - и то замирал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ужасе, гневе и боли сердц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 не в кино, а в бою до конц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смерть стояли, спасая свою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дину, город свой, дом и семью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се, что вам дорого, любо и свято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то было в сердце любого солдат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лагодарить мы могли б неустанн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е затянутся прошлого раны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Ждут не хвалебных речей ветераны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 чтобы память была постоянно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мни и ценим. Для нас вы - как звезды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ир на Земле вашим подвигом создан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с поздравлять с Днём Победы готов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праздники, будни, все снова и снова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22 Июня 1941 4:00 часа ночи Объявление о Начале Великой Отечественной Войны. Помним, Любим и Скорбим! &quot; ok.ya1.ru"/>
          <p:cNvPicPr/>
          <p:nvPr/>
        </p:nvPicPr>
        <p:blipFill>
          <a:blip r:embed="rId1"/>
          <a:stretch/>
        </p:blipFill>
        <p:spPr>
          <a:xfrm>
            <a:off x="5508720" y="549360"/>
            <a:ext cx="2995560" cy="2158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C Днем Победы. - Archnest.com"/>
          <p:cNvPicPr/>
          <p:nvPr/>
        </p:nvPicPr>
        <p:blipFill>
          <a:blip r:embed="rId2"/>
          <a:stretch/>
        </p:blipFill>
        <p:spPr>
          <a:xfrm>
            <a:off x="5522760" y="2997360"/>
            <a:ext cx="31528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Презентация на тему 1941-1945 гг. - презентация по истории скачать"/>
          <p:cNvPicPr/>
          <p:nvPr/>
        </p:nvPicPr>
        <p:blipFill>
          <a:blip r:embed="rId1"/>
          <a:stretch/>
        </p:blipFill>
        <p:spPr>
          <a:xfrm>
            <a:off x="1547640" y="549360"/>
            <a:ext cx="705672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051520" cy="538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ы прошёл всю войну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ы прополз всю войну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 границы к Москве, до Берлин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ы держись, ветеран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ожди умирать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смотри на внучат и на сын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спомни всех, ветеран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х, с кем ты воевал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то в окопах зимою и летом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гибал, побеждал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ил, смеялся, стрелял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друзей хоронил на рассветах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опять полз на брюхе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пел, как умел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 землянку и синий платочек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ел про дружбу, про то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к любимая ждёт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 Победу, которой так хочешь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у, держись, ветеран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ы не смей умирать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о в груди затихают куранты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ой окончен,совсем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последний салюты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дают молодые </a:t>
            </a:r>
            <a:r>
              <a:rPr b="0" lang="ru-RU" sz="14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курсант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2" descr="Великая Отечественная Война 1941-1945. (57 фото) Картинки со смыслом"/>
          <p:cNvPicPr/>
          <p:nvPr/>
        </p:nvPicPr>
        <p:blipFill>
          <a:blip r:embed="rId2"/>
          <a:stretch/>
        </p:blipFill>
        <p:spPr>
          <a:xfrm>
            <a:off x="5003640" y="404640"/>
            <a:ext cx="3384720" cy="2259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ФОТО Великая Отечественная война / Фото VOV_1941_1945_1000 (19).jpg"/>
          <p:cNvPicPr/>
          <p:nvPr/>
        </p:nvPicPr>
        <p:blipFill>
          <a:blip r:embed="rId3"/>
          <a:stretch/>
        </p:blipFill>
        <p:spPr>
          <a:xfrm>
            <a:off x="5021280" y="2924280"/>
            <a:ext cx="3438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еребрякова Фаина Михайлов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2" descr="C:\Users\User\Desktop\Рисунок.jpg"/>
          <p:cNvPicPr/>
          <p:nvPr/>
        </p:nvPicPr>
        <p:blipFill>
          <a:blip r:embed="rId1"/>
          <a:stretch/>
        </p:blipFill>
        <p:spPr>
          <a:xfrm>
            <a:off x="2987640" y="1700280"/>
            <a:ext cx="30002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63640" y="1557000"/>
            <a:ext cx="621360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еребрякова Фаина Михайловн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одилась 27 мая 1924 года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в городе  Мамадыш Татарской АССР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19280" y="-243000"/>
            <a:ext cx="662472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ю свою жизнь прожила в городе Мамадыш 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лась в школе №1,  закончила 10 классов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943 году ушла на войну. До войны работала на тракторе и учётчиком   в кормовом пункте , где держали коров. Работа находилась на подсобном хозяйстве за рекой Вят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" descr="Государственные архивы РФ, хранящие фотодокументы о Великой Отечественной войне 1941-1945 гг. Сайт &quot;Победа. 1941-1945&quot;."/>
          <p:cNvPicPr/>
          <p:nvPr/>
        </p:nvPicPr>
        <p:blipFill>
          <a:blip r:embed="rId1"/>
          <a:stretch/>
        </p:blipFill>
        <p:spPr>
          <a:xfrm>
            <a:off x="2700360" y="2708280"/>
            <a:ext cx="46465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1640" y="1125360"/>
            <a:ext cx="705636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 время работы в 1943 году пришла повестка из  военкомата. На тот момент девушке было 19 лет. Позже переправилась на пароме через Вятку домой, там жила с неродной матерью.  Отца расстреляли как  врага народа, в последствии репрессировали. На следующей день она пошла с повесткой в военкомат. С ней было еще 8 девчат с разных деревень, их  отправили в Казань, затем  в Чистополь,  где они  прошли комисси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03280" y="549360"/>
            <a:ext cx="7212240" cy="27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аина Михайловна попала в  1-й дивизион. Так как она уже занималась военной подготовкой в Мамадыше, её отправили в Штат полка. Поручили возить секретные документы в Штат, проработала 1 месяц. Позже её и еще  1 девушку отправили учиться на радистов, проучились 1 месяц,  и отправили их в 5 дивизион. После, была направлена на фронт на Западную Украину, затем в Польшу и Берлин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Объект 3" descr=""/>
          <p:cNvPicPr/>
          <p:nvPr/>
        </p:nvPicPr>
        <p:blipFill>
          <a:blip r:embed="rId1"/>
          <a:stretch/>
        </p:blipFill>
        <p:spPr>
          <a:xfrm>
            <a:off x="2700360" y="2997360"/>
            <a:ext cx="460836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18920" y="404280"/>
            <a:ext cx="684036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йну встретили в Германии. После войны познакомилась с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будущем мужем - Александром. Он тоже был участником войны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шёл всю войну до победного конца , был награждён «Орденом красной звезды». Родили и воспитали четверых детей – Надежду, Виктора, Нину и Юрия.  Долгое время были счастливы, но одна за одной последовали  потери.  Сначала умер муж,  потом старший сын, затем после тяжелой болезни умирает  дочь. На сегодняшний день Фаина Михайловна  живёт с младшим сыном, а  дочь Нина проживает в Москве, но с внуками часто приезжает в Мамадыш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Объект 3" descr=""/>
          <p:cNvPicPr/>
          <p:nvPr/>
        </p:nvPicPr>
        <p:blipFill>
          <a:blip r:embed="rId1"/>
          <a:stretch/>
        </p:blipFill>
        <p:spPr>
          <a:xfrm>
            <a:off x="2987640" y="3357720"/>
            <a:ext cx="374508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79280" y="1268280"/>
            <a:ext cx="626436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этом году Фаине Михайловне исполнилось  90 лет.  Дочь хотела забрать её в Москву, но Фаина Михайловна не хочет уезжать из родного края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Оксана</cp:lastModifiedBy>
  <dcterms:modified xsi:type="dcterms:W3CDTF">2015-01-30T06:37:38Z</dcterms:modified>
  <cp:revision>12</cp:revision>
  <dc:subject/>
  <dc:title>Слайд 1</dc:title>
</cp:coreProperties>
</file>